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F5954-A2B6-448B-8D72-BFD791EF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6D151-AE4D-46E2-853D-818B12C2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6049-602F-418E-BEC3-85A269D1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D094-4B9B-43B3-80D1-843FE3F1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7B50-785B-40F8-8ADF-A911C671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8F9F-C484-4665-82A2-1D4B4471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189C-FB1A-4230-AF82-15DCC144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DB72-CFD5-4C98-9D9B-84F5E4CF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3D70-A8AE-4184-805C-0A32F692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3A56-D434-43BC-A884-E44E08C5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004E-B7DC-4F61-B7A8-9D83BD6A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E3E1-E5AD-4998-8EC1-7B38CCC5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280D-4D30-47E8-8F50-7FADBE8A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B002-0B61-4F2A-A54F-EF8970D5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E5E3-1244-4009-A4E0-13227F65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891F-FD20-4E4D-AE82-206CD613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38EE-D7D0-4DC8-A19B-5BA291E1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B599-9F7E-4BC1-94C8-95CF0190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76E7-CFD0-451D-B90F-7E0D9C99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FB7C-EF4C-4592-9D78-0D4E0EBC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E1A7-25F8-4467-97B0-498DFFA0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CEAB-D645-4408-9FDE-FCC4A6F5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82B0-5E36-4AD1-BF94-23C31B40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851A-9361-4C06-A682-2678025C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4098-8BE5-4028-AE86-E5A112E7CA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C359-05E6-4F27-91E6-1279FA1068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Thursday, November 13th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remaining trig fun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sc 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= 5 and cos 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&gt; 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otient Ident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540160" y="1830240"/>
          <a:ext cx="406368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1830240"/>
                    <a:ext cx="406368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ythagorean Ident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523880" y="1913040"/>
          <a:ext cx="6096240" cy="39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13040"/>
                    <a:ext cx="6096240" cy="39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dd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f(-x)=-f(x)  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NOT symmetric about y axi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(-x)= -sin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(-x)= -tan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(-x)= -csc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-x)= -cot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ven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f(-x)=f(x)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YMMETRIC about y axi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(-x) = cos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(-x) = sec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function Ident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s 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i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t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ta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sc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ec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the problem is in radians, 90° will be replaced with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/2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def6"/>
                </a:solidFill>
                <a:latin typeface="Arial"/>
              </a:rPr>
              <a:t>Lesson 5.1</a:t>
            </a:r>
            <a:br>
              <a:rPr sz="8500"/>
            </a:br>
            <a:r>
              <a:rPr b="0" lang="en-US" sz="8500" spc="-1" strike="noStrike">
                <a:solidFill>
                  <a:srgbClr val="dfdef6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fdef6"/>
                </a:solidFill>
                <a:latin typeface="Arial"/>
              </a:rPr>
              <a:t>Simplifying Trigonometric Identities</a:t>
            </a:r>
            <a:endParaRPr b="0" lang="en-US" sz="65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fdef6"/>
                </a:solidFill>
                <a:latin typeface="Arial"/>
              </a:rPr>
              <a:t>To simplify a trig identity means to rewrite it in as few terms/quantities as possible</a:t>
            </a:r>
            <a:endParaRPr b="0" lang="en-US" sz="55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To do this we use trig identity properti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.  Simplify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s 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 Tan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Questions from last night’s HW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(pg 381 #1-13)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dfdef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implify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s(</a:t>
            </a:r>
            <a:r>
              <a:rPr b="0" lang="en-US" sz="4000" spc="-1" strike="noStrike" baseline="30000">
                <a:solidFill>
                  <a:srgbClr val="dfdef6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fdef6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– x) Cot x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dfdef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implify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s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(1 + Tan</a:t>
            </a:r>
            <a:r>
              <a:rPr b="0" lang="en-US" sz="4000" spc="-1" strike="noStrike" baseline="30000">
                <a:solidFill>
                  <a:srgbClr val="dfdef6"/>
                </a:solidFill>
                <a:latin typeface="Arial"/>
                <a:ea typeface="Arial"/>
              </a:rPr>
              <a:t>2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dfdef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implify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(Tan</a:t>
            </a:r>
            <a:r>
              <a:rPr b="0" lang="en-US" sz="4000" spc="-1" strike="noStrike" baseline="30000">
                <a:solidFill>
                  <a:srgbClr val="dfdef6"/>
                </a:solidFill>
                <a:latin typeface="Arial"/>
              </a:rPr>
              <a:t>2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)/(Sec</a:t>
            </a:r>
            <a:r>
              <a:rPr b="0" lang="en-US" sz="4000" spc="-1" strike="noStrike" baseline="30000">
                <a:solidFill>
                  <a:srgbClr val="dfdef6"/>
                </a:solidFill>
                <a:latin typeface="Arial"/>
                <a:ea typeface="Arial"/>
              </a:rPr>
              <a:t>2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def6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fdef6"/>
                </a:solidFill>
                <a:latin typeface="Arial"/>
              </a:rPr>
              <a:t>Page 381</a:t>
            </a:r>
            <a:br>
              <a:rPr sz="7500"/>
            </a:br>
            <a:r>
              <a:rPr b="0" lang="en-US" sz="7500" spc="-1" strike="noStrike">
                <a:solidFill>
                  <a:srgbClr val="dfdef6"/>
                </a:solidFill>
                <a:latin typeface="Arial"/>
              </a:rPr>
              <a:t>#31-41</a:t>
            </a:r>
            <a:endParaRPr b="0" lang="en-US" sz="75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ciprocal Ident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990720" y="1752480"/>
          <a:ext cx="29462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2946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4876920" y="1752480"/>
          <a:ext cx="3016080" cy="452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752480"/>
                    <a:ext cx="301608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4:35:34Z</dcterms:created>
  <dc:creator>jnewman</dc:creator>
  <dc:description/>
  <dc:language>en-US</dc:language>
  <cp:lastModifiedBy>abeason</cp:lastModifiedBy>
  <dcterms:modified xsi:type="dcterms:W3CDTF">2008-11-13T19:06:34Z</dcterms:modified>
  <cp:revision>9</cp:revision>
  <dc:subject/>
  <dc:title>Lesson 5.1 part two</dc:title>
</cp:coreProperties>
</file>